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FD40-0EC7-4CAD-8414-BEABFE4D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67E2-5992-4092-A9E4-EDCBA361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7379-ADFE-4E58-BB52-6CCA3CFD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E22F-B31C-4D7E-A6EF-4C9AFEBE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F82A-B6F6-4DDB-9D54-5AEE5A89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514F-E642-4319-B6D7-B299C00B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4B6B-C927-458B-8ED4-1C4F1044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A1C9-5838-49EE-98B1-6214C36A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71B2-8E52-4B34-887D-3A3F9B6C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A435-4F37-4E2E-A556-D30E3821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0C37-720F-4409-9587-26EFB0AD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FD32-6234-4E8E-9F08-E90DD5E9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EE26-E637-48D0-89F9-A63274E61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biomart" descr=""/>
          <p:cNvPicPr/>
          <p:nvPr/>
        </p:nvPicPr>
        <p:blipFill>
          <a:blip r:embed="rId2"/>
          <a:srcRect l="0" t="50621" r="0" b="0"/>
          <a:stretch/>
        </p:blipFill>
        <p:spPr>
          <a:xfrm>
            <a:off x="254160" y="0"/>
            <a:ext cx="1746000" cy="692280"/>
          </a:xfrm>
          <a:prstGeom prst="rect">
            <a:avLst/>
          </a:prstGeom>
          <a:ln w="0">
            <a:noFill/>
          </a:ln>
        </p:spPr>
      </p:pic>
      <p:pic>
        <p:nvPicPr>
          <p:cNvPr id="6" name="ebitree_light_lores" descr=""/>
          <p:cNvPicPr/>
          <p:nvPr/>
        </p:nvPicPr>
        <p:blipFill>
          <a:blip r:embed="rId3"/>
          <a:stretch/>
        </p:blipFill>
        <p:spPr>
          <a:xfrm>
            <a:off x="7878600" y="0"/>
            <a:ext cx="960480" cy="68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ederated Query 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437400" y="5424480"/>
            <a:ext cx="364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k Kasprzy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ropean Bioinformatics In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 April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Key featur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ner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versal BioMart data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ry-based interf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data dependent abstr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scal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ry optimised sch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port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ic, simple SQ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ioMart – a generic syst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y abstr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e cas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Upstream sequenc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for all kinas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p-regulated in brain and associated with known dis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Name, chromosome position, d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of all gen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ocated on chromosome 1, expressed in lung, associated with mouse homologues and non-synonymous snp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Key Abstrac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41200" y="3056040"/>
            <a:ext cx="1212840" cy="1350000"/>
            <a:chOff x="241200" y="3056040"/>
            <a:chExt cx="1212840" cy="1350000"/>
          </a:xfrm>
        </p:grpSpPr>
        <p:sp>
          <p:nvSpPr>
            <p:cNvPr id="94" name=""/>
            <p:cNvSpPr/>
            <p:nvPr/>
          </p:nvSpPr>
          <p:spPr>
            <a:xfrm>
              <a:off x="241200" y="3056040"/>
              <a:ext cx="121284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ENE CENTRA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2640" y="3246120"/>
              <a:ext cx="1209960" cy="115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id(PK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stable_i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sta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chrom_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romoso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display_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70000" y="1768320"/>
            <a:ext cx="1143000" cy="849240"/>
            <a:chOff x="270000" y="1768320"/>
            <a:chExt cx="1143000" cy="849240"/>
          </a:xfrm>
        </p:grpSpPr>
        <p:sp>
          <p:nvSpPr>
            <p:cNvPr id="97" name=""/>
            <p:cNvSpPr/>
            <p:nvPr/>
          </p:nvSpPr>
          <p:spPr>
            <a:xfrm>
              <a:off x="270000" y="1768320"/>
              <a:ext cx="1143000" cy="8492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5640" y="2244600"/>
              <a:ext cx="136440" cy="10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61920" y="2134800"/>
              <a:ext cx="13680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9360" y="2134800"/>
              <a:ext cx="13788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61920" y="2409480"/>
              <a:ext cx="13680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9360" y="2409480"/>
              <a:ext cx="13788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686880" y="2190600"/>
              <a:ext cx="7020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92080" y="2354040"/>
              <a:ext cx="6984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92080" y="2190600"/>
              <a:ext cx="69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86880" y="2354040"/>
              <a:ext cx="7020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880" y="2193480"/>
              <a:ext cx="341280" cy="246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52920" y="1827360"/>
            <a:ext cx="5348160" cy="401004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1433160" y="1295280"/>
            <a:ext cx="1910160" cy="828720"/>
            <a:chOff x="1433160" y="1295280"/>
            <a:chExt cx="1910160" cy="828720"/>
          </a:xfrm>
        </p:grpSpPr>
        <p:sp>
          <p:nvSpPr>
            <p:cNvPr id="110" name=""/>
            <p:cNvSpPr/>
            <p:nvPr/>
          </p:nvSpPr>
          <p:spPr>
            <a:xfrm>
              <a:off x="1909800" y="1295280"/>
              <a:ext cx="960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433160" y="1827360"/>
              <a:ext cx="3351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17880" y="1827360"/>
              <a:ext cx="32544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535040" y="2079720"/>
            <a:ext cx="1727280" cy="457200"/>
            <a:chOff x="1535040" y="2079720"/>
            <a:chExt cx="1727280" cy="457200"/>
          </a:xfrm>
        </p:grpSpPr>
        <p:sp>
          <p:nvSpPr>
            <p:cNvPr id="114" name=""/>
            <p:cNvSpPr/>
            <p:nvPr/>
          </p:nvSpPr>
          <p:spPr>
            <a:xfrm>
              <a:off x="1920960" y="2079720"/>
              <a:ext cx="9604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97360" y="2306520"/>
              <a:ext cx="26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535040" y="233676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16040" y="2540160"/>
            <a:ext cx="1717200" cy="1158840"/>
            <a:chOff x="1616040" y="2540160"/>
            <a:chExt cx="1717200" cy="1158840"/>
          </a:xfrm>
        </p:grpSpPr>
        <p:sp>
          <p:nvSpPr>
            <p:cNvPr id="118" name=""/>
            <p:cNvSpPr/>
            <p:nvPr/>
          </p:nvSpPr>
          <p:spPr>
            <a:xfrm>
              <a:off x="1929960" y="2865600"/>
              <a:ext cx="9601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028680" y="2540160"/>
              <a:ext cx="30456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616040" y="3454560"/>
              <a:ext cx="17280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595160" y="2987640"/>
            <a:ext cx="1807920" cy="1120680"/>
            <a:chOff x="1595160" y="2987640"/>
            <a:chExt cx="1807920" cy="1120680"/>
          </a:xfrm>
        </p:grpSpPr>
        <p:sp>
          <p:nvSpPr>
            <p:cNvPr id="122" name=""/>
            <p:cNvSpPr/>
            <p:nvPr/>
          </p:nvSpPr>
          <p:spPr>
            <a:xfrm>
              <a:off x="1929960" y="3651120"/>
              <a:ext cx="9601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l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595160" y="389088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008160" y="2987640"/>
              <a:ext cx="39492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83340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6720" y="43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rt Query Language (MQL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MartShell" descr="MartShell"/>
          <p:cNvPicPr/>
          <p:nvPr/>
        </p:nvPicPr>
        <p:blipFill>
          <a:blip r:embed="rId1"/>
          <a:stretch/>
        </p:blipFill>
        <p:spPr>
          <a:xfrm>
            <a:off x="838080" y="1676520"/>
            <a:ext cx="4195800" cy="42415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5715000" y="2616120"/>
            <a:ext cx="2224440" cy="1469880"/>
            <a:chOff x="5715000" y="2616120"/>
            <a:chExt cx="2224440" cy="1469880"/>
          </a:xfrm>
        </p:grpSpPr>
        <p:sp>
          <p:nvSpPr>
            <p:cNvPr id="130" name=""/>
            <p:cNvSpPr/>
            <p:nvPr/>
          </p:nvSpPr>
          <p:spPr>
            <a:xfrm>
              <a:off x="5715000" y="2616120"/>
              <a:ext cx="222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Times New Roman"/>
                </a:rPr>
                <a:t>Using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 = data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15000" y="3108240"/>
              <a:ext cx="207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Get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=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15720" y="3565440"/>
              <a:ext cx="21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= 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ma spec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ML-based configu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min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ation/Buil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ies and interfaces (Perl, Jav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versed Star’ Sche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268440" y="2769840"/>
            <a:ext cx="2370240" cy="3188520"/>
            <a:chOff x="3268440" y="2769840"/>
            <a:chExt cx="2370240" cy="3188520"/>
          </a:xfrm>
        </p:grpSpPr>
        <p:grpSp>
          <p:nvGrpSpPr>
            <p:cNvPr id="137" name=""/>
            <p:cNvGrpSpPr/>
            <p:nvPr/>
          </p:nvGrpSpPr>
          <p:grpSpPr>
            <a:xfrm>
              <a:off x="5540400" y="4951080"/>
              <a:ext cx="96840" cy="192600"/>
              <a:chOff x="5540400" y="4951080"/>
              <a:chExt cx="96840" cy="19260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5540400" y="4951080"/>
                <a:ext cx="9684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540400" y="5047560"/>
                <a:ext cx="9684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268440" y="2769840"/>
              <a:ext cx="2370240" cy="3188520"/>
              <a:chOff x="3268440" y="2769840"/>
              <a:chExt cx="2370240" cy="318852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3347640" y="2769840"/>
                <a:ext cx="95400" cy="192600"/>
                <a:chOff x="3347640" y="2769840"/>
                <a:chExt cx="95400" cy="192600"/>
              </a:xfrm>
            </p:grpSpPr>
            <p:sp>
              <p:nvSpPr>
                <p:cNvPr id="142" name=""/>
                <p:cNvSpPr/>
                <p:nvPr/>
              </p:nvSpPr>
              <p:spPr>
                <a:xfrm flipH="1" flipV="1">
                  <a:off x="3347640" y="2769840"/>
                  <a:ext cx="9540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>
                  <a:off x="3347640" y="2866320"/>
                  <a:ext cx="9540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268440" y="2865240"/>
                <a:ext cx="2370240" cy="3093120"/>
                <a:chOff x="3268440" y="2865240"/>
                <a:chExt cx="2370240" cy="309312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3268440" y="4944600"/>
                  <a:ext cx="96840" cy="192600"/>
                  <a:chOff x="3268440" y="4944600"/>
                  <a:chExt cx="96840" cy="1926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H="1" flipV="1">
                    <a:off x="3268440" y="4944600"/>
                    <a:ext cx="96840" cy="96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>
                    <a:off x="3268440" y="5041080"/>
                    <a:ext cx="96840" cy="96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3279240" y="2865240"/>
                  <a:ext cx="2359440" cy="3093120"/>
                  <a:chOff x="3279240" y="2865240"/>
                  <a:chExt cx="2359440" cy="3093120"/>
                </a:xfrm>
              </p:grpSpPr>
              <p:cxnSp>
                <p:nvCxnSpPr>
                  <p:cNvPr id="149" name=""/>
                  <p:cNvCxnSpPr/>
                  <p:nvPr/>
                </p:nvCxnSpPr>
                <p:spPr>
                  <a:xfrm flipV="1">
                    <a:off x="3279240" y="4627080"/>
                    <a:ext cx="320040" cy="410400"/>
                  </a:xfrm>
                  <a:prstGeom prst="bentConnector3">
                    <a:avLst>
                      <a:gd name="adj1" fmla="val 50000"/>
                    </a:avLst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150" name=""/>
                  <p:cNvSpPr/>
                  <p:nvPr/>
                </p:nvSpPr>
                <p:spPr>
                  <a:xfrm>
                    <a:off x="3603600" y="4307040"/>
                    <a:ext cx="1700280" cy="215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CRIPT CENTRAL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597120" y="4492800"/>
                    <a:ext cx="1711440" cy="14655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transcript_id (PK)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i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stable_id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chrom_star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chrom_en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chromosom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display_i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ban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descriptio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etc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152" name=""/>
                  <p:cNvCxnSpPr/>
                  <p:nvPr/>
                </p:nvCxnSpPr>
                <p:spPr>
                  <a:xfrm>
                    <a:off x="3349800" y="2865240"/>
                    <a:ext cx="249840" cy="1710360"/>
                  </a:xfrm>
                  <a:prstGeom prst="bentConnector3">
                    <a:avLst>
                      <a:gd name="adj1" fmla="val 49927"/>
                    </a:avLst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53" name=""/>
                  <p:cNvCxnSpPr/>
                  <p:nvPr/>
                </p:nvCxnSpPr>
                <p:spPr>
                  <a:xfrm>
                    <a:off x="5316120" y="4581360"/>
                    <a:ext cx="322920" cy="462960"/>
                  </a:xfrm>
                  <a:prstGeom prst="bentConnector3">
                    <a:avLst>
                      <a:gd name="adj1" fmla="val 50000"/>
                    </a:avLst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</p:grpSp>
      </p:grpSp>
      <p:grpSp>
        <p:nvGrpSpPr>
          <p:cNvPr id="154" name=""/>
          <p:cNvGrpSpPr/>
          <p:nvPr/>
        </p:nvGrpSpPr>
        <p:grpSpPr>
          <a:xfrm>
            <a:off x="5637240" y="2417760"/>
            <a:ext cx="1270080" cy="837720"/>
            <a:chOff x="5637240" y="2417760"/>
            <a:chExt cx="1270080" cy="837720"/>
          </a:xfrm>
        </p:grpSpPr>
        <p:sp>
          <p:nvSpPr>
            <p:cNvPr id="155" name=""/>
            <p:cNvSpPr/>
            <p:nvPr/>
          </p:nvSpPr>
          <p:spPr>
            <a:xfrm>
              <a:off x="5637240" y="2417760"/>
              <a:ext cx="12700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SEASE SATELLI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7240" y="2612880"/>
              <a:ext cx="12700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id (FK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sea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mim_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tc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638680" y="4599000"/>
            <a:ext cx="1355760" cy="975240"/>
            <a:chOff x="5638680" y="4599000"/>
            <a:chExt cx="1355760" cy="975240"/>
          </a:xfrm>
        </p:grpSpPr>
        <p:sp>
          <p:nvSpPr>
            <p:cNvPr id="158" name=""/>
            <p:cNvSpPr/>
            <p:nvPr/>
          </p:nvSpPr>
          <p:spPr>
            <a:xfrm>
              <a:off x="5640840" y="4599000"/>
              <a:ext cx="135360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FSEQ SATELLI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38680" y="4794480"/>
              <a:ext cx="1355760" cy="77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id (FK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cript_id(FK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b_primary_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splay_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tc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122440" y="2593440"/>
            <a:ext cx="521280" cy="192600"/>
            <a:chOff x="5122440" y="2593440"/>
            <a:chExt cx="521280" cy="192600"/>
          </a:xfrm>
        </p:grpSpPr>
        <p:grpSp>
          <p:nvGrpSpPr>
            <p:cNvPr id="161" name=""/>
            <p:cNvGrpSpPr/>
            <p:nvPr/>
          </p:nvGrpSpPr>
          <p:grpSpPr>
            <a:xfrm>
              <a:off x="5548320" y="2593440"/>
              <a:ext cx="95400" cy="192600"/>
              <a:chOff x="5548320" y="2593440"/>
              <a:chExt cx="95400" cy="192600"/>
            </a:xfrm>
          </p:grpSpPr>
          <p:sp>
            <p:nvSpPr>
              <p:cNvPr id="162" name=""/>
              <p:cNvSpPr/>
              <p:nvPr/>
            </p:nvSpPr>
            <p:spPr>
              <a:xfrm flipV="1">
                <a:off x="5548320" y="2593440"/>
                <a:ext cx="9540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548320" y="2689920"/>
                <a:ext cx="9540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 flipH="1">
              <a:off x="5122440" y="2689200"/>
              <a:ext cx="5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147760" y="2417760"/>
            <a:ext cx="1636920" cy="3294720"/>
            <a:chOff x="2147760" y="2417760"/>
            <a:chExt cx="1636920" cy="3294720"/>
          </a:xfrm>
        </p:grpSpPr>
        <p:sp>
          <p:nvSpPr>
            <p:cNvPr id="166" name=""/>
            <p:cNvSpPr/>
            <p:nvPr/>
          </p:nvSpPr>
          <p:spPr>
            <a:xfrm>
              <a:off x="3349080" y="2689560"/>
              <a:ext cx="42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3349080" y="2593440"/>
              <a:ext cx="95760" cy="191520"/>
              <a:chOff x="3349080" y="2593440"/>
              <a:chExt cx="95760" cy="191520"/>
            </a:xfrm>
          </p:grpSpPr>
          <p:sp>
            <p:nvSpPr>
              <p:cNvPr id="168" name=""/>
              <p:cNvSpPr/>
              <p:nvPr/>
            </p:nvSpPr>
            <p:spPr>
              <a:xfrm flipH="1" flipV="1">
                <a:off x="3349080" y="2593440"/>
                <a:ext cx="957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3349080" y="2689200"/>
                <a:ext cx="957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147760" y="2417760"/>
              <a:ext cx="1636920" cy="3294720"/>
              <a:chOff x="2147760" y="2417760"/>
              <a:chExt cx="1636920" cy="32947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2147760" y="2417760"/>
                <a:ext cx="1202040" cy="3294720"/>
                <a:chOff x="2147760" y="2417760"/>
                <a:chExt cx="1202040" cy="32947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147760" y="2417760"/>
                  <a:ext cx="1199880" cy="215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FAM SATELLIT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147760" y="2612880"/>
                  <a:ext cx="1202040" cy="779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ene_id (FK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ranscript_id(FK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ranslation_i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fam_i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etc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4" name=""/>
                <p:cNvGrpSpPr/>
                <p:nvPr/>
              </p:nvGrpSpPr>
              <p:grpSpPr>
                <a:xfrm>
                  <a:off x="2147760" y="4600440"/>
                  <a:ext cx="1118880" cy="1112040"/>
                  <a:chOff x="2147760" y="4600440"/>
                  <a:chExt cx="1118880" cy="111204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2147760" y="4600440"/>
                    <a:ext cx="1117440" cy="215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SNP SATELLIT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2147760" y="4795560"/>
                    <a:ext cx="1118880" cy="9169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id (FK)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transcript_id(FK)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snp_i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snp_external_i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snp_chrom_star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etc.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7" name=""/>
              <p:cNvGrpSpPr/>
              <p:nvPr/>
            </p:nvGrpSpPr>
            <p:grpSpPr>
              <a:xfrm>
                <a:off x="3268080" y="2740320"/>
                <a:ext cx="516600" cy="2238840"/>
                <a:chOff x="3268080" y="2740320"/>
                <a:chExt cx="516600" cy="2238840"/>
              </a:xfrm>
            </p:grpSpPr>
            <p:cxnSp>
              <p:nvCxnSpPr>
                <p:cNvPr id="178" name=""/>
                <p:cNvCxnSpPr/>
                <p:nvPr/>
              </p:nvCxnSpPr>
              <p:spPr>
                <a:xfrm flipV="1">
                  <a:off x="3268080" y="2740320"/>
                  <a:ext cx="516960" cy="2144880"/>
                </a:xfrm>
                <a:prstGeom prst="bentConnector3">
                  <a:avLst>
                    <a:gd name="adj1" fmla="val 49825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grpSp>
              <p:nvGrpSpPr>
                <p:cNvPr id="179" name=""/>
                <p:cNvGrpSpPr/>
                <p:nvPr/>
              </p:nvGrpSpPr>
              <p:grpSpPr>
                <a:xfrm>
                  <a:off x="3276720" y="4787640"/>
                  <a:ext cx="95760" cy="191520"/>
                  <a:chOff x="3276720" y="4787640"/>
                  <a:chExt cx="95760" cy="19152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flipV="1">
                    <a:off x="3276720" y="4787640"/>
                    <a:ext cx="95760" cy="95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>
                    <a:off x="3276720" y="4883400"/>
                    <a:ext cx="95760" cy="95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82" name=""/>
          <p:cNvGrpSpPr/>
          <p:nvPr/>
        </p:nvGrpSpPr>
        <p:grpSpPr>
          <a:xfrm>
            <a:off x="5120640" y="2741400"/>
            <a:ext cx="517680" cy="2237760"/>
            <a:chOff x="5120640" y="2741400"/>
            <a:chExt cx="517680" cy="2237760"/>
          </a:xfrm>
        </p:grpSpPr>
        <p:cxnSp>
          <p:nvCxnSpPr>
            <p:cNvPr id="183" name=""/>
            <p:cNvCxnSpPr/>
            <p:nvPr/>
          </p:nvCxnSpPr>
          <p:spPr>
            <a:xfrm rot="10800000">
              <a:off x="5120640" y="2741040"/>
              <a:ext cx="518040" cy="2144160"/>
            </a:xfrm>
            <a:prstGeom prst="bentConnector3">
              <a:avLst>
                <a:gd name="adj1" fmla="val 49860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84" name=""/>
            <p:cNvGrpSpPr/>
            <p:nvPr/>
          </p:nvGrpSpPr>
          <p:grpSpPr>
            <a:xfrm>
              <a:off x="5540040" y="4787640"/>
              <a:ext cx="96120" cy="191520"/>
              <a:chOff x="5540040" y="4787640"/>
              <a:chExt cx="96120" cy="19152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5540040" y="4787640"/>
                <a:ext cx="9612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040" y="4883400"/>
                <a:ext cx="9612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3784680" y="2612880"/>
            <a:ext cx="1338120" cy="13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id(PK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stable_i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chrom_st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chrom_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display_i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84680" y="2428920"/>
            <a:ext cx="1341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 CENTR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2320" y="28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XML-based Configur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98600" y="3400560"/>
            <a:ext cx="1143000" cy="849240"/>
            <a:chOff x="498600" y="3400560"/>
            <a:chExt cx="1143000" cy="849240"/>
          </a:xfrm>
        </p:grpSpPr>
        <p:sp>
          <p:nvSpPr>
            <p:cNvPr id="191" name=""/>
            <p:cNvSpPr/>
            <p:nvPr/>
          </p:nvSpPr>
          <p:spPr>
            <a:xfrm>
              <a:off x="498600" y="3400560"/>
              <a:ext cx="1143000" cy="8492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84240" y="3876840"/>
              <a:ext cx="136440" cy="10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90520" y="3767040"/>
              <a:ext cx="13680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7960" y="3767040"/>
              <a:ext cx="13788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90520" y="4041720"/>
              <a:ext cx="13680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7960" y="4041720"/>
              <a:ext cx="13788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915480" y="3822840"/>
              <a:ext cx="7020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20680" y="3986280"/>
              <a:ext cx="6984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1120680" y="3822840"/>
              <a:ext cx="69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915480" y="3986280"/>
              <a:ext cx="7020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79480" y="3825720"/>
              <a:ext cx="341280" cy="246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441880" y="1417680"/>
            <a:ext cx="3974760" cy="2271600"/>
            <a:chOff x="2441880" y="1417680"/>
            <a:chExt cx="3974760" cy="2271600"/>
          </a:xfrm>
        </p:grpSpPr>
        <p:grpSp>
          <p:nvGrpSpPr>
            <p:cNvPr id="203" name=""/>
            <p:cNvGrpSpPr/>
            <p:nvPr/>
          </p:nvGrpSpPr>
          <p:grpSpPr>
            <a:xfrm>
              <a:off x="4305240" y="1417680"/>
              <a:ext cx="2111400" cy="2271600"/>
              <a:chOff x="4305240" y="1417680"/>
              <a:chExt cx="2111400" cy="2271600"/>
            </a:xfrm>
          </p:grpSpPr>
          <p:pic>
            <p:nvPicPr>
              <p:cNvPr id="204" name="" descr=""/>
              <p:cNvPicPr/>
              <p:nvPr/>
            </p:nvPicPr>
            <p:blipFill>
              <a:blip r:embed="rId1"/>
              <a:srcRect l="16285" t="0" r="17911" b="5602"/>
              <a:stretch/>
            </p:blipFill>
            <p:spPr>
              <a:xfrm>
                <a:off x="4305240" y="1417680"/>
                <a:ext cx="2111400" cy="22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4340160" y="2260800"/>
                <a:ext cx="1568520" cy="140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441880" y="3038400"/>
              <a:ext cx="575280" cy="457200"/>
              <a:chOff x="2441880" y="3038400"/>
              <a:chExt cx="575280" cy="457200"/>
            </a:xfrm>
          </p:grpSpPr>
          <p:sp>
            <p:nvSpPr>
              <p:cNvPr id="207" name=""/>
              <p:cNvSpPr/>
              <p:nvPr/>
            </p:nvSpPr>
            <p:spPr>
              <a:xfrm>
                <a:off x="2503440" y="3038400"/>
                <a:ext cx="45684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441880" y="311112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2410200" y="3948120"/>
            <a:ext cx="4044600" cy="2490840"/>
            <a:chOff x="2410200" y="3948120"/>
            <a:chExt cx="4044600" cy="2490840"/>
          </a:xfrm>
        </p:grpSpPr>
        <p:pic>
          <p:nvPicPr>
            <p:cNvPr id="210" name="" descr=""/>
            <p:cNvPicPr/>
            <p:nvPr/>
          </p:nvPicPr>
          <p:blipFill>
            <a:blip r:embed="rId2"/>
            <a:srcRect l="16285" t="0" r="17911" b="5602"/>
            <a:stretch/>
          </p:blipFill>
          <p:spPr>
            <a:xfrm>
              <a:off x="4343400" y="4167360"/>
              <a:ext cx="2111400" cy="22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1" name=""/>
            <p:cNvGrpSpPr/>
            <p:nvPr/>
          </p:nvGrpSpPr>
          <p:grpSpPr>
            <a:xfrm>
              <a:off x="2410200" y="3948120"/>
              <a:ext cx="575280" cy="1058760"/>
              <a:chOff x="2410200" y="3948120"/>
              <a:chExt cx="575280" cy="1058760"/>
            </a:xfrm>
          </p:grpSpPr>
          <p:sp>
            <p:nvSpPr>
              <p:cNvPr id="212" name=""/>
              <p:cNvSpPr/>
              <p:nvPr/>
            </p:nvSpPr>
            <p:spPr>
              <a:xfrm>
                <a:off x="2487600" y="3948120"/>
                <a:ext cx="457200" cy="105876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410200" y="426564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3010320" y="2503440"/>
            <a:ext cx="5692320" cy="2271600"/>
            <a:chOff x="3010320" y="2503440"/>
            <a:chExt cx="5692320" cy="2271600"/>
          </a:xfrm>
        </p:grpSpPr>
        <p:grpSp>
          <p:nvGrpSpPr>
            <p:cNvPr id="215" name=""/>
            <p:cNvGrpSpPr/>
            <p:nvPr/>
          </p:nvGrpSpPr>
          <p:grpSpPr>
            <a:xfrm>
              <a:off x="3071880" y="2503440"/>
              <a:ext cx="5630760" cy="2271600"/>
              <a:chOff x="3071880" y="2503440"/>
              <a:chExt cx="5630760" cy="227160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6591240" y="2503440"/>
                <a:ext cx="2111400" cy="2271600"/>
                <a:chOff x="6591240" y="2503440"/>
                <a:chExt cx="2111400" cy="2271600"/>
              </a:xfrm>
            </p:grpSpPr>
            <p:pic>
              <p:nvPicPr>
                <p:cNvPr id="217" name="" descr=""/>
                <p:cNvPicPr/>
                <p:nvPr/>
              </p:nvPicPr>
              <p:blipFill>
                <a:blip r:embed="rId3"/>
                <a:srcRect l="16285" t="0" r="17911" b="5602"/>
                <a:stretch/>
              </p:blipFill>
              <p:spPr>
                <a:xfrm>
                  <a:off x="6591240" y="2503440"/>
                  <a:ext cx="2111400" cy="22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>
                  <a:off x="6627960" y="3968640"/>
                  <a:ext cx="1568160" cy="788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>
                <a:off x="3071880" y="3481560"/>
                <a:ext cx="457200" cy="7110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3010320" y="3673440"/>
              <a:ext cx="5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dmin Tool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tEdito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L editor with build-in system log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 existing interf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ically create new, ‘naive’ config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tBuild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forms source -&gt; mart sch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et of SQL commands (mart-build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utomatic schema trans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ploying BioMart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66720" y="2878200"/>
            <a:ext cx="1852200" cy="1402920"/>
            <a:chOff x="666720" y="2878200"/>
            <a:chExt cx="1852200" cy="1402920"/>
          </a:xfrm>
        </p:grpSpPr>
        <p:sp>
          <p:nvSpPr>
            <p:cNvPr id="225" name=""/>
            <p:cNvSpPr/>
            <p:nvPr/>
          </p:nvSpPr>
          <p:spPr>
            <a:xfrm>
              <a:off x="666720" y="2878200"/>
              <a:ext cx="1577880" cy="11286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3520" y="3015720"/>
              <a:ext cx="1578240" cy="11282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41040" y="3152880"/>
              <a:ext cx="1577880" cy="11282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ur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b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756880" y="2498760"/>
            <a:ext cx="3002040" cy="1433160"/>
            <a:chOff x="2756880" y="2498760"/>
            <a:chExt cx="3002040" cy="1433160"/>
          </a:xfrm>
        </p:grpSpPr>
        <p:sp>
          <p:nvSpPr>
            <p:cNvPr id="229" name=""/>
            <p:cNvSpPr/>
            <p:nvPr/>
          </p:nvSpPr>
          <p:spPr>
            <a:xfrm>
              <a:off x="4654080" y="3170520"/>
              <a:ext cx="1104840" cy="7614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54680" y="3571920"/>
              <a:ext cx="10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56880" y="2498760"/>
              <a:ext cx="20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878200" y="4535640"/>
            <a:ext cx="1630440" cy="94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Bui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607000" y="2496960"/>
            <a:ext cx="2499840" cy="1571400"/>
            <a:chOff x="5607000" y="2496960"/>
            <a:chExt cx="2499840" cy="1571400"/>
          </a:xfrm>
        </p:grpSpPr>
        <p:sp>
          <p:nvSpPr>
            <p:cNvPr id="234" name=""/>
            <p:cNvSpPr/>
            <p:nvPr/>
          </p:nvSpPr>
          <p:spPr>
            <a:xfrm>
              <a:off x="6055920" y="3603960"/>
              <a:ext cx="80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07000" y="249696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83520" y="3244680"/>
              <a:ext cx="823320" cy="82368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643720" y="4537080"/>
            <a:ext cx="1630080" cy="94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anging Research Focu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crease in high-throughput technolo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ing sophistication of the us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question involving big data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spe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experi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dats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sources distribu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36560" y="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Edito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969840" y="878040"/>
            <a:ext cx="7477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 acc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braries and interfa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Lib          (AP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View       (We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Shell       (Tex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Explorer  (GU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Lib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1363680" y="1871640"/>
            <a:ext cx="898560" cy="501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3478320"/>
            <a:ext cx="898560" cy="503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28720" y="261000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22600" y="4154400"/>
            <a:ext cx="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16240" y="3751200"/>
            <a:ext cx="11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62200" y="3508200"/>
            <a:ext cx="1764000" cy="503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 Handler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324160" y="3895560"/>
            <a:ext cx="114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451480" y="3743280"/>
            <a:ext cx="78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27720" y="2838600"/>
            <a:ext cx="169704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 Ch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54720" y="3462480"/>
            <a:ext cx="169884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up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35640" y="4054320"/>
            <a:ext cx="1698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58760" y="4888080"/>
            <a:ext cx="1575000" cy="501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 Ru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35200" y="552924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39280" y="552600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05080" y="6283440"/>
            <a:ext cx="72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81320" y="625644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5494320" y="3987720"/>
            <a:ext cx="720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468400" y="3174840"/>
            <a:ext cx="65268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65280" y="13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rcRect l="16285" t="0" r="17911" b="5602"/>
          <a:stretch/>
        </p:blipFill>
        <p:spPr>
          <a:xfrm>
            <a:off x="2011320" y="1338120"/>
            <a:ext cx="491796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-36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Shel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33480" y="963720"/>
            <a:ext cx="7477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3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Explor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33480" y="13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047600" y="1123920"/>
            <a:ext cx="7477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stributed Architectu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Query-chain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600200" y="3048120"/>
            <a:ext cx="6019920" cy="1326600"/>
            <a:chOff x="1600200" y="3048120"/>
            <a:chExt cx="6019920" cy="1326600"/>
          </a:xfrm>
        </p:grpSpPr>
        <p:grpSp>
          <p:nvGrpSpPr>
            <p:cNvPr id="275" name=""/>
            <p:cNvGrpSpPr/>
            <p:nvPr/>
          </p:nvGrpSpPr>
          <p:grpSpPr>
            <a:xfrm>
              <a:off x="1600200" y="3537000"/>
              <a:ext cx="914400" cy="837720"/>
              <a:chOff x="1600200" y="3537000"/>
              <a:chExt cx="914400" cy="837720"/>
            </a:xfrm>
          </p:grpSpPr>
          <p:sp>
            <p:nvSpPr>
              <p:cNvPr id="276" name=""/>
              <p:cNvSpPr/>
              <p:nvPr/>
            </p:nvSpPr>
            <p:spPr>
              <a:xfrm>
                <a:off x="1600200" y="3537000"/>
                <a:ext cx="457200" cy="8377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057400" y="3537000"/>
                <a:ext cx="457200" cy="8377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191120" y="3384360"/>
              <a:ext cx="914400" cy="838080"/>
              <a:chOff x="4191120" y="3384360"/>
              <a:chExt cx="914400" cy="838080"/>
            </a:xfrm>
          </p:grpSpPr>
          <p:sp>
            <p:nvSpPr>
              <p:cNvPr id="279" name=""/>
              <p:cNvSpPr/>
              <p:nvPr/>
            </p:nvSpPr>
            <p:spPr>
              <a:xfrm>
                <a:off x="4191120" y="3384360"/>
                <a:ext cx="457200" cy="8380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648320" y="3384360"/>
                <a:ext cx="457200" cy="838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553080" y="3537000"/>
              <a:ext cx="914400" cy="837720"/>
              <a:chOff x="6553080" y="3537000"/>
              <a:chExt cx="914400" cy="837720"/>
            </a:xfrm>
          </p:grpSpPr>
          <p:sp>
            <p:nvSpPr>
              <p:cNvPr id="282" name=""/>
              <p:cNvSpPr/>
              <p:nvPr/>
            </p:nvSpPr>
            <p:spPr>
              <a:xfrm>
                <a:off x="6553080" y="3537000"/>
                <a:ext cx="457200" cy="8377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010280" y="3537000"/>
                <a:ext cx="457200" cy="8377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2743200" y="3765600"/>
              <a:ext cx="10666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34120" y="3841560"/>
              <a:ext cx="914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00200" y="3141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se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91120" y="30481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se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3080" y="3200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set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519200" y="4635360"/>
            <a:ext cx="658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Dataset1 get Attribute1 where Filter1=var1 as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Dataset2 get Attribute2 where Filter2=var2 and filter3 in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ioMart – A Distributed Architectu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laptop"/>
          <p:cNvSpPr/>
          <p:nvPr/>
        </p:nvSpPr>
        <p:spPr>
          <a:xfrm>
            <a:off x="3657600" y="5410080"/>
            <a:ext cx="685800" cy="5158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981080" y="1981080"/>
            <a:ext cx="3962160" cy="4190760"/>
            <a:chOff x="1981080" y="1981080"/>
            <a:chExt cx="3962160" cy="4190760"/>
          </a:xfrm>
        </p:grpSpPr>
        <p:grpSp>
          <p:nvGrpSpPr>
            <p:cNvPr id="293" name=""/>
            <p:cNvGrpSpPr/>
            <p:nvPr/>
          </p:nvGrpSpPr>
          <p:grpSpPr>
            <a:xfrm>
              <a:off x="1981080" y="1981080"/>
              <a:ext cx="3962160" cy="4190400"/>
              <a:chOff x="1981080" y="1981080"/>
              <a:chExt cx="3962160" cy="4190400"/>
            </a:xfrm>
          </p:grpSpPr>
          <p:sp>
            <p:nvSpPr>
              <p:cNvPr id="294" name=""/>
              <p:cNvSpPr/>
              <p:nvPr/>
            </p:nvSpPr>
            <p:spPr>
              <a:xfrm>
                <a:off x="1981080" y="1981080"/>
                <a:ext cx="0" cy="419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81080" y="617148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981080" y="198108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5943240" y="198108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514600" y="2514600"/>
            <a:ext cx="2940120" cy="777960"/>
            <a:chOff x="2514600" y="2514600"/>
            <a:chExt cx="2940120" cy="777960"/>
          </a:xfrm>
        </p:grpSpPr>
        <p:sp>
          <p:nvSpPr>
            <p:cNvPr id="299" name=""/>
            <p:cNvSpPr/>
            <p:nvPr/>
          </p:nvSpPr>
          <p:spPr>
            <a:xfrm>
              <a:off x="3718080" y="2514600"/>
              <a:ext cx="533520" cy="381240"/>
            </a:xfrm>
            <a:prstGeom prst="can">
              <a:avLst>
                <a:gd name="adj" fmla="val 250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21200" y="2514600"/>
              <a:ext cx="533520" cy="381240"/>
            </a:xfrm>
            <a:prstGeom prst="can">
              <a:avLst>
                <a:gd name="adj" fmla="val 250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2514600" y="2514600"/>
              <a:ext cx="533520" cy="777960"/>
              <a:chOff x="2514600" y="2514600"/>
              <a:chExt cx="533520" cy="777960"/>
            </a:xfrm>
          </p:grpSpPr>
          <p:sp>
            <p:nvSpPr>
              <p:cNvPr id="302" name=""/>
              <p:cNvSpPr/>
              <p:nvPr/>
            </p:nvSpPr>
            <p:spPr>
              <a:xfrm>
                <a:off x="2514600" y="2514600"/>
                <a:ext cx="533520" cy="381240"/>
              </a:xfrm>
              <a:prstGeom prst="can">
                <a:avLst>
                  <a:gd name="adj" fmla="val 25000"/>
                </a:avLst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90920" y="2971800"/>
                <a:ext cx="320760" cy="32076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810240" y="2971800"/>
              <a:ext cx="32040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29200" y="297180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439360" y="2133720"/>
            <a:ext cx="3414960" cy="307080"/>
            <a:chOff x="2439360" y="2133720"/>
            <a:chExt cx="3414960" cy="307080"/>
          </a:xfrm>
        </p:grpSpPr>
        <p:sp>
          <p:nvSpPr>
            <p:cNvPr id="307" name=""/>
            <p:cNvSpPr/>
            <p:nvPr/>
          </p:nvSpPr>
          <p:spPr>
            <a:xfrm>
              <a:off x="2439360" y="2133720"/>
              <a:ext cx="76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ySQ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21600" y="2133720"/>
              <a:ext cx="89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00240" y="21337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ostgreSQ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432600" y="3581280"/>
            <a:ext cx="1086120" cy="1404000"/>
            <a:chOff x="3432600" y="3581280"/>
            <a:chExt cx="1086120" cy="1404000"/>
          </a:xfrm>
        </p:grpSpPr>
        <p:sp>
          <p:nvSpPr>
            <p:cNvPr id="311" name=""/>
            <p:cNvSpPr/>
            <p:nvPr/>
          </p:nvSpPr>
          <p:spPr>
            <a:xfrm flipV="1">
              <a:off x="3962160" y="35812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32600" y="4647960"/>
              <a:ext cx="108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SI SQ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477120" y="2057400"/>
            <a:ext cx="533160" cy="4054320"/>
            <a:chOff x="6477120" y="2057400"/>
            <a:chExt cx="533160" cy="4054320"/>
          </a:xfrm>
        </p:grpSpPr>
        <p:grpSp>
          <p:nvGrpSpPr>
            <p:cNvPr id="314" name=""/>
            <p:cNvGrpSpPr/>
            <p:nvPr/>
          </p:nvGrpSpPr>
          <p:grpSpPr>
            <a:xfrm>
              <a:off x="6477120" y="2057400"/>
              <a:ext cx="533160" cy="777600"/>
              <a:chOff x="6477120" y="2057400"/>
              <a:chExt cx="533160" cy="777600"/>
            </a:xfrm>
          </p:grpSpPr>
          <p:sp>
            <p:nvSpPr>
              <p:cNvPr id="315" name=""/>
              <p:cNvSpPr/>
              <p:nvPr/>
            </p:nvSpPr>
            <p:spPr>
              <a:xfrm>
                <a:off x="6477120" y="2057400"/>
                <a:ext cx="533160" cy="380880"/>
              </a:xfrm>
              <a:prstGeom prst="can">
                <a:avLst>
                  <a:gd name="adj" fmla="val 25000"/>
                </a:avLst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553080" y="2514600"/>
                <a:ext cx="320040" cy="32040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6477120" y="3149640"/>
              <a:ext cx="533160" cy="777600"/>
              <a:chOff x="6477120" y="3149640"/>
              <a:chExt cx="533160" cy="777600"/>
            </a:xfrm>
          </p:grpSpPr>
          <p:sp>
            <p:nvSpPr>
              <p:cNvPr id="318" name=""/>
              <p:cNvSpPr/>
              <p:nvPr/>
            </p:nvSpPr>
            <p:spPr>
              <a:xfrm>
                <a:off x="6477120" y="3149640"/>
                <a:ext cx="533160" cy="380880"/>
              </a:xfrm>
              <a:prstGeom prst="can">
                <a:avLst>
                  <a:gd name="adj" fmla="val 25000"/>
                </a:avLst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553080" y="3606840"/>
                <a:ext cx="320040" cy="32040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6477120" y="4241520"/>
              <a:ext cx="533160" cy="777960"/>
              <a:chOff x="6477120" y="4241520"/>
              <a:chExt cx="533160" cy="777960"/>
            </a:xfrm>
          </p:grpSpPr>
          <p:sp>
            <p:nvSpPr>
              <p:cNvPr id="321" name=""/>
              <p:cNvSpPr/>
              <p:nvPr/>
            </p:nvSpPr>
            <p:spPr>
              <a:xfrm>
                <a:off x="6477120" y="4241520"/>
                <a:ext cx="533160" cy="381240"/>
              </a:xfrm>
              <a:prstGeom prst="can">
                <a:avLst>
                  <a:gd name="adj" fmla="val 25000"/>
                </a:avLst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553080" y="4698720"/>
                <a:ext cx="320040" cy="32076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6477120" y="5333760"/>
              <a:ext cx="533160" cy="777960"/>
              <a:chOff x="6477120" y="5333760"/>
              <a:chExt cx="533160" cy="777960"/>
            </a:xfrm>
          </p:grpSpPr>
          <p:sp>
            <p:nvSpPr>
              <p:cNvPr id="324" name=""/>
              <p:cNvSpPr/>
              <p:nvPr/>
            </p:nvSpPr>
            <p:spPr>
              <a:xfrm>
                <a:off x="6477120" y="5333760"/>
                <a:ext cx="533160" cy="381240"/>
              </a:xfrm>
              <a:prstGeom prst="can">
                <a:avLst>
                  <a:gd name="adj" fmla="val 25000"/>
                </a:avLst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553080" y="5790960"/>
                <a:ext cx="320040" cy="32076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6" name=""/>
          <p:cNvSpPr/>
          <p:nvPr/>
        </p:nvSpPr>
        <p:spPr>
          <a:xfrm>
            <a:off x="3962520" y="4495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514600" y="2895480"/>
            <a:ext cx="4723920" cy="3429000"/>
            <a:chOff x="2514600" y="2895480"/>
            <a:chExt cx="4723920" cy="3429000"/>
          </a:xfrm>
        </p:grpSpPr>
        <p:grpSp>
          <p:nvGrpSpPr>
            <p:cNvPr id="328" name=""/>
            <p:cNvGrpSpPr/>
            <p:nvPr/>
          </p:nvGrpSpPr>
          <p:grpSpPr>
            <a:xfrm>
              <a:off x="2514600" y="3657600"/>
              <a:ext cx="1447200" cy="1692000"/>
              <a:chOff x="2514600" y="3657600"/>
              <a:chExt cx="1447200" cy="169200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2514600" y="3657600"/>
                <a:ext cx="533160" cy="1692000"/>
                <a:chOff x="2514600" y="3657600"/>
                <a:chExt cx="533160" cy="16920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2514600" y="3657600"/>
                  <a:ext cx="533160" cy="38088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590560" y="4114800"/>
                  <a:ext cx="320400" cy="32040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M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514600" y="4572000"/>
                  <a:ext cx="533160" cy="38088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590560" y="5029200"/>
                  <a:ext cx="320400" cy="32040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M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4" name=""/>
              <p:cNvSpPr/>
              <p:nvPr/>
            </p:nvSpPr>
            <p:spPr>
              <a:xfrm flipH="1">
                <a:off x="3200040" y="449568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324480" y="2895480"/>
              <a:ext cx="914040" cy="3429000"/>
              <a:chOff x="6324480" y="2895480"/>
              <a:chExt cx="914040" cy="3429000"/>
            </a:xfrm>
          </p:grpSpPr>
          <p:sp>
            <p:nvSpPr>
              <p:cNvPr id="336" name=""/>
              <p:cNvSpPr/>
              <p:nvPr/>
            </p:nvSpPr>
            <p:spPr>
              <a:xfrm>
                <a:off x="6324480" y="5257800"/>
                <a:ext cx="914040" cy="106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324480" y="2895480"/>
                <a:ext cx="914040" cy="106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– User Perspectiv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387160" y="4105440"/>
            <a:ext cx="6583680" cy="1817640"/>
            <a:chOff x="2387160" y="4105440"/>
            <a:chExt cx="6583680" cy="1817640"/>
          </a:xfrm>
        </p:grpSpPr>
        <p:grpSp>
          <p:nvGrpSpPr>
            <p:cNvPr id="340" name=""/>
            <p:cNvGrpSpPr/>
            <p:nvPr/>
          </p:nvGrpSpPr>
          <p:grpSpPr>
            <a:xfrm>
              <a:off x="3724200" y="4464000"/>
              <a:ext cx="2867040" cy="1116000"/>
              <a:chOff x="3724200" y="4464000"/>
              <a:chExt cx="2867040" cy="1116000"/>
            </a:xfrm>
          </p:grpSpPr>
          <p:sp>
            <p:nvSpPr>
              <p:cNvPr id="341" name=""/>
              <p:cNvSpPr/>
              <p:nvPr/>
            </p:nvSpPr>
            <p:spPr>
              <a:xfrm>
                <a:off x="4160520" y="4997160"/>
                <a:ext cx="973080" cy="2905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MartVie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327280" y="4997160"/>
                <a:ext cx="971640" cy="2905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MartLi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724200" y="5580000"/>
                <a:ext cx="28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724200" y="4464000"/>
                <a:ext cx="28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591240" y="4464000"/>
                <a:ext cx="0" cy="11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022000" y="4576680"/>
                <a:ext cx="1409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WWW SERV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24200" y="4464000"/>
                <a:ext cx="0" cy="11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 flipH="1">
              <a:off x="2387160" y="5207040"/>
              <a:ext cx="7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231040" y="4237200"/>
              <a:ext cx="582840" cy="6476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31040" y="5099040"/>
              <a:ext cx="582840" cy="6462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88240" y="442440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88240" y="529272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63920" y="4105440"/>
              <a:ext cx="5506920" cy="181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696000" y="503856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 flipV="1">
            <a:off x="6675480" y="3413160"/>
            <a:ext cx="842760" cy="146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aptop"/>
          <p:cNvSpPr/>
          <p:nvPr/>
        </p:nvSpPr>
        <p:spPr>
          <a:xfrm>
            <a:off x="1550880" y="4948200"/>
            <a:ext cx="582840" cy="4399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7788240" y="2514600"/>
            <a:ext cx="1025640" cy="1508040"/>
            <a:chOff x="7788240" y="2514600"/>
            <a:chExt cx="1025640" cy="1508040"/>
          </a:xfrm>
        </p:grpSpPr>
        <p:sp>
          <p:nvSpPr>
            <p:cNvPr id="358" name=""/>
            <p:cNvSpPr/>
            <p:nvPr/>
          </p:nvSpPr>
          <p:spPr>
            <a:xfrm>
              <a:off x="8231040" y="2514600"/>
              <a:ext cx="582840" cy="647640"/>
            </a:xfrm>
            <a:prstGeom prst="can">
              <a:avLst>
                <a:gd name="adj" fmla="val 25000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231040" y="3376440"/>
              <a:ext cx="582840" cy="646200"/>
            </a:xfrm>
            <a:prstGeom prst="can">
              <a:avLst>
                <a:gd name="adj" fmla="val 25000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88240" y="269064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8240" y="355752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17600" y="2486160"/>
            <a:ext cx="7100640" cy="2126880"/>
            <a:chOff x="417600" y="2486160"/>
            <a:chExt cx="7100640" cy="2126880"/>
          </a:xfrm>
        </p:grpSpPr>
        <p:grpSp>
          <p:nvGrpSpPr>
            <p:cNvPr id="363" name=""/>
            <p:cNvGrpSpPr/>
            <p:nvPr/>
          </p:nvGrpSpPr>
          <p:grpSpPr>
            <a:xfrm>
              <a:off x="417600" y="2486160"/>
              <a:ext cx="2874960" cy="2126880"/>
              <a:chOff x="417600" y="2486160"/>
              <a:chExt cx="2874960" cy="2126880"/>
            </a:xfrm>
          </p:grpSpPr>
          <p:grpSp>
            <p:nvGrpSpPr>
              <p:cNvPr id="364" name=""/>
              <p:cNvGrpSpPr/>
              <p:nvPr/>
            </p:nvGrpSpPr>
            <p:grpSpPr>
              <a:xfrm>
                <a:off x="547560" y="2874960"/>
                <a:ext cx="2516040" cy="837720"/>
                <a:chOff x="547560" y="2874960"/>
                <a:chExt cx="2516040" cy="8377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547560" y="2874960"/>
                  <a:ext cx="1118160" cy="2512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MartShel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47560" y="3461400"/>
                  <a:ext cx="1118160" cy="2512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MartExplor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945440" y="3209760"/>
                  <a:ext cx="1118160" cy="2512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MartLi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8" name=""/>
              <p:cNvSpPr/>
              <p:nvPr/>
            </p:nvSpPr>
            <p:spPr>
              <a:xfrm>
                <a:off x="417600" y="2486160"/>
                <a:ext cx="0" cy="14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7600" y="3948120"/>
                <a:ext cx="287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7600" y="2486160"/>
                <a:ext cx="287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292560" y="2486160"/>
                <a:ext cx="0" cy="14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094400" y="2547720"/>
                <a:ext cx="204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TANDALONE CLI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830240" y="4095720"/>
                <a:ext cx="0" cy="51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3505320" y="3209760"/>
              <a:ext cx="401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e cas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stream sequences for all kinases upregulated in brain and associated with known dis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me, chromosome position, description of all genes  located on chromosome 1, expressed in lung, associated with mouse homologues, and non-synonymous snp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stributed Model Benef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group retains full control over their data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cont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upd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presentation (interfa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loyment 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t-spec data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-compatible’ star sch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ble naming convention (dataset__content__typ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L configuration fi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DBMS server outside firew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at Do You Get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exible interfaces configurable according to your sp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-assured’ data retriev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ry chaining across data 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ministrator tools for modifying and deploying th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utu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Jul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pha release of the BioMart su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fic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hema naming conven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TD for XML confi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ministration Tool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access (Perl/Java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ed on MySQL 4/Oracle 9i ‘mixture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fter July 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tBuild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ically build marts from existing 3NF with predefined PK/F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xed schema data transformation fun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QL coll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oratory for the Foundation of Computer Scie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ll Lab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– an Open Projec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code and data freely avai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s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ebi.ac.uk/bioma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ebi.ac.uk/biomart/mart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MySQL ser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db.ebi.ac.u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tp.ebi.ac.u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-de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-annou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you need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lable and flexible search interfaces for an existing datab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gle ‘integrated’ search interface to many in house databas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’ your databases to other databases on the inter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and GMO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ints for discu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ma transformation for Ch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ed and stabl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ema transformation for current schemas of member databas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ing it in PostgreSQ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olu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oinformatics suppo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ssing data 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third party softw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house proces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bioinformatic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-stop shop for biological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re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mian Smedl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mian Kee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reas Kaha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aig Melsop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Spo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rin Lond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aterina Tzouv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world_color" descr=""/>
          <p:cNvPicPr/>
          <p:nvPr/>
        </p:nvPicPr>
        <p:blipFill>
          <a:blip r:embed="rId1"/>
          <a:stretch/>
        </p:blipFill>
        <p:spPr>
          <a:xfrm>
            <a:off x="222120" y="1171440"/>
            <a:ext cx="8921880" cy="56865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1066680" y="3276720"/>
            <a:ext cx="7226280" cy="2522520"/>
            <a:chOff x="1066680" y="3276720"/>
            <a:chExt cx="7226280" cy="2522520"/>
          </a:xfrm>
        </p:grpSpPr>
        <p:sp>
          <p:nvSpPr>
            <p:cNvPr id="54" name=""/>
            <p:cNvSpPr/>
            <p:nvPr/>
          </p:nvSpPr>
          <p:spPr>
            <a:xfrm>
              <a:off x="1066680" y="3276720"/>
              <a:ext cx="520920" cy="31248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54864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72400" y="34290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33920" y="2666880"/>
            <a:ext cx="1218960" cy="3970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6477120"/>
            <a:ext cx="2971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aptop"/>
          <p:cNvSpPr/>
          <p:nvPr/>
        </p:nvSpPr>
        <p:spPr>
          <a:xfrm>
            <a:off x="3962520" y="1219320"/>
            <a:ext cx="731880" cy="550800"/>
          </a:xfrm>
          <a:prstGeom prst="pi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world_color" descr=""/>
          <p:cNvPicPr/>
          <p:nvPr/>
        </p:nvPicPr>
        <p:blipFill>
          <a:blip r:embed="rId1"/>
          <a:stretch/>
        </p:blipFill>
        <p:spPr>
          <a:xfrm>
            <a:off x="222120" y="1171440"/>
            <a:ext cx="8921880" cy="568656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1066680" y="3276720"/>
            <a:ext cx="7226280" cy="2522520"/>
            <a:chOff x="1066680" y="3276720"/>
            <a:chExt cx="7226280" cy="2522520"/>
          </a:xfrm>
        </p:grpSpPr>
        <p:sp>
          <p:nvSpPr>
            <p:cNvPr id="62" name=""/>
            <p:cNvSpPr/>
            <p:nvPr/>
          </p:nvSpPr>
          <p:spPr>
            <a:xfrm>
              <a:off x="1066680" y="3276720"/>
              <a:ext cx="520920" cy="31248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43400" y="54864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72400" y="34290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971800" y="6477120"/>
            <a:ext cx="2971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aptop"/>
          <p:cNvSpPr/>
          <p:nvPr/>
        </p:nvSpPr>
        <p:spPr>
          <a:xfrm>
            <a:off x="3962520" y="1219320"/>
            <a:ext cx="731880" cy="550800"/>
          </a:xfrm>
          <a:prstGeom prst="pi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2743200"/>
            <a:ext cx="22096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 Container ‘Revolution’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container" descr=""/>
          <p:cNvPicPr/>
          <p:nvPr/>
        </p:nvPicPr>
        <p:blipFill>
          <a:blip r:embed="rId1"/>
          <a:stretch/>
        </p:blipFill>
        <p:spPr>
          <a:xfrm>
            <a:off x="3352680" y="4221000"/>
            <a:ext cx="4241880" cy="2637000"/>
          </a:xfrm>
          <a:prstGeom prst="rect">
            <a:avLst/>
          </a:prstGeom>
          <a:ln w="0">
            <a:noFill/>
          </a:ln>
        </p:spPr>
      </p:pic>
      <p:pic>
        <p:nvPicPr>
          <p:cNvPr id="70" name="ship6" descr=""/>
          <p:cNvPicPr/>
          <p:nvPr/>
        </p:nvPicPr>
        <p:blipFill>
          <a:blip r:embed="rId2"/>
          <a:stretch/>
        </p:blipFill>
        <p:spPr>
          <a:xfrm>
            <a:off x="152280" y="2590920"/>
            <a:ext cx="3006720" cy="2278080"/>
          </a:xfrm>
          <a:prstGeom prst="rect">
            <a:avLst/>
          </a:prstGeom>
          <a:ln w="0">
            <a:noFill/>
          </a:ln>
        </p:spPr>
      </p:pic>
      <p:pic>
        <p:nvPicPr>
          <p:cNvPr id="71" name="ship" descr=""/>
          <p:cNvPicPr/>
          <p:nvPr/>
        </p:nvPicPr>
        <p:blipFill>
          <a:blip r:embed="rId3"/>
          <a:stretch/>
        </p:blipFill>
        <p:spPr>
          <a:xfrm>
            <a:off x="4191120" y="1752480"/>
            <a:ext cx="41227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world_color" descr=""/>
          <p:cNvPicPr/>
          <p:nvPr/>
        </p:nvPicPr>
        <p:blipFill>
          <a:blip r:embed="rId1"/>
          <a:stretch/>
        </p:blipFill>
        <p:spPr>
          <a:xfrm>
            <a:off x="222120" y="1171440"/>
            <a:ext cx="8921880" cy="568656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066680" y="3276720"/>
            <a:ext cx="7226280" cy="2522520"/>
            <a:chOff x="1066680" y="3276720"/>
            <a:chExt cx="7226280" cy="2522520"/>
          </a:xfrm>
        </p:grpSpPr>
        <p:sp>
          <p:nvSpPr>
            <p:cNvPr id="74" name=""/>
            <p:cNvSpPr/>
            <p:nvPr/>
          </p:nvSpPr>
          <p:spPr>
            <a:xfrm>
              <a:off x="1066680" y="3276720"/>
              <a:ext cx="520920" cy="31248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43400" y="54864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72400" y="34290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971800" y="6477120"/>
            <a:ext cx="2971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aptop"/>
          <p:cNvSpPr/>
          <p:nvPr/>
        </p:nvSpPr>
        <p:spPr>
          <a:xfrm>
            <a:off x="3962520" y="1219320"/>
            <a:ext cx="731880" cy="550800"/>
          </a:xfrm>
          <a:prstGeom prst="pi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2743200"/>
            <a:ext cx="22096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828800" y="3352680"/>
            <a:ext cx="5638680" cy="2001960"/>
            <a:chOff x="1828800" y="3352680"/>
            <a:chExt cx="5638680" cy="2001960"/>
          </a:xfrm>
        </p:grpSpPr>
        <p:sp>
          <p:nvSpPr>
            <p:cNvPr id="81" name=""/>
            <p:cNvSpPr/>
            <p:nvPr/>
          </p:nvSpPr>
          <p:spPr>
            <a:xfrm>
              <a:off x="7086600" y="3429000"/>
              <a:ext cx="380880" cy="2491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28800" y="3352680"/>
              <a:ext cx="380880" cy="24948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19720" y="5105520"/>
              <a:ext cx="380880" cy="249120"/>
            </a:xfrm>
            <a:prstGeom prst="can">
              <a:avLst>
                <a:gd name="adj" fmla="val 2038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ystem Over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18:11:45Z</dcterms:created>
  <dc:creator>arek</dc:creator>
  <dc:description/>
  <dc:language>en-US</dc:language>
  <cp:lastModifiedBy>arek</cp:lastModifiedBy>
  <cp:lastPrinted>2004-04-24T07:05:00Z</cp:lastPrinted>
  <dcterms:modified xsi:type="dcterms:W3CDTF">2004-05-04T08:16:36Z</dcterms:modified>
  <cp:revision>514</cp:revision>
  <dc:subject/>
  <dc:title>BioMart</dc:title>
</cp:coreProperties>
</file>